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09E-475F-4883-A3CE-53DF24BF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A0D2-DB56-40EF-980E-375E9BF7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04D-4A8D-479D-9C19-3ADC1CC9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D8B-C467-4A2E-9412-BAB12642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3F98-36F8-4E20-A364-A9756412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24A6-B324-469F-A4E4-83D52811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0D1-5342-4268-9729-DE975727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5343-244B-42F7-B84C-5E9A6AC4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5D10-6D4E-4524-BD26-79BB6572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489C-7D6B-4194-8F55-DD0D65F8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627B-5068-4134-89AD-888EF15E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AD51-0EF5-4039-8256-BDAFC72E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E666-3BC3-46FC-B993-7C3DE52B1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: С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амоспозна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стављање програма и портфолија за ученике/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 и договарање о начину 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интересо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ештина и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т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ред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моспознаја – аутопортр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очима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кав/каква сам у ти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ј тип уч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 за 10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 родитеље/старетеље и децу: Моја очеки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,3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формисање о занимањима, каријери и путевима образ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ка савременог света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4. Прикупљање и начин обраде информација  о школама и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5. Повезивање области рада са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6. Путеви образовања и 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7. Припрема за интерв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8. Спровођење интервју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9. Припрема сусрета са експертима у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. Експерти у нашој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,5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лни сусрети са светом рада и доношење одлуке о школовању и заним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1. Осверт на резултате информис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2. Посета средњој 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3. Посета предузећу/устан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4. Евалуација програма ПО за 7. раз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+ 15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часова реалних сус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3:00:5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